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93A1-9D8F-49AF-BC06-AD8C7123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27040"/>
            <a:ext cx="83059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EE2B-F2BF-4243-ACE3-7FCF4F35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480" y="205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480" y="412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6E87-E9CF-47B7-9AD7-6759A254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744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5920" y="2057040"/>
            <a:ext cx="26744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2057040"/>
            <a:ext cx="26744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27040"/>
            <a:ext cx="26744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5920" y="4127040"/>
            <a:ext cx="26744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4127040"/>
            <a:ext cx="26744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1128-16AA-4346-A88A-561F62D0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A629-59CD-4D5B-B927-1DB2201E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6F7A-AD42-4153-88EC-679BA5BC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E7F2-91DC-4CD8-8579-D26B9FA8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53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3480" y="2057040"/>
            <a:ext cx="4053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DC62-8B92-4997-BEA7-9D8C8257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6023-9E7C-4462-BDCC-FA4E877F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432C-6DD5-469D-9D1C-D92E990C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3480" y="2057040"/>
            <a:ext cx="4053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419E-313C-403C-98A5-07B682D5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2BE2-F772-4B60-AA74-82C53BE3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53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3480" y="205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3480" y="412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83A5-7E98-4017-AC8E-603CF6DA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3480" y="205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83059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CD6C-76B0-4862-AAB0-E6EC7CFC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27040"/>
            <a:ext cx="83059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FEAB-F25E-417C-AC8A-D44FF1AE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3480" y="205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3480" y="412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C320-25CC-4236-BA19-46223712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744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5920" y="2057040"/>
            <a:ext cx="26744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4280" y="2057040"/>
            <a:ext cx="26744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27040"/>
            <a:ext cx="26744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5920" y="4127040"/>
            <a:ext cx="26744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4280" y="4127040"/>
            <a:ext cx="26744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9AF8-64AD-4F8D-9463-4EED6C38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49A0-6465-47F6-B18A-C0717549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53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480" y="2057040"/>
            <a:ext cx="4053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711-70B8-41B2-AAFE-835931B7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E83-8BBC-47FB-A0A2-AED53032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6DB-14F2-472E-84A2-934B39FC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2057040"/>
            <a:ext cx="4053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0929-1A1B-4C0F-9839-4DD7CD65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53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205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480" y="412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A44E-5547-4920-AEBF-E7CC614F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205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83059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069A-525D-4F4E-8096-B983AD12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Pizzicato-Swash"/>
              </a:rPr>
              <a:t>Click to edit the title text format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lvl="1" marL="713160" indent="-274320">
              <a:spcBef>
                <a:spcPts val="799"/>
              </a:spcBef>
              <a:buClr>
                <a:srgbClr val="99cc00"/>
              </a:buClr>
              <a:buFont typeface="Pizzicato-Swa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lvl="2" marL="1097280" indent="-21924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lvl="3" marL="1536120" indent="-219240">
              <a:spcBef>
                <a:spcPts val="799"/>
              </a:spcBef>
              <a:buClr>
                <a:srgbClr val="99cc00"/>
              </a:buClr>
              <a:buFont typeface="Pizzicato-Swa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lvl="4" marL="1974960" indent="-219240">
              <a:spcBef>
                <a:spcPts val="799"/>
              </a:spcBef>
              <a:buClr>
                <a:srgbClr val="99cc00"/>
              </a:buClr>
              <a:buFont typeface="Pizzicato-Swash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Pizzicato-Swash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Pizzicato-Swash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Pizzicato-Swash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18CD-E3D9-4591-A321-6A9E682EC59C}" type="slidenum">
              <a:rPr b="0" lang="en-US" sz="1400" spc="-1" strike="noStrike">
                <a:solidFill>
                  <a:srgbClr val="000066"/>
                </a:solidFill>
                <a:latin typeface="Pizzicato-Swash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Pizzicato-Swash"/>
              </a:rPr>
              <a:t>Click to edit the title text format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lvl="1" marL="713160" indent="-274320">
              <a:spcBef>
                <a:spcPts val="799"/>
              </a:spcBef>
              <a:buClr>
                <a:srgbClr val="99cc00"/>
              </a:buClr>
              <a:buFont typeface="Pizzicato-Swa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lvl="2" marL="1097280" indent="-21924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lvl="3" marL="1536120" indent="-219240">
              <a:spcBef>
                <a:spcPts val="799"/>
              </a:spcBef>
              <a:buClr>
                <a:srgbClr val="99cc00"/>
              </a:buClr>
              <a:buFont typeface="Pizzicato-Swa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lvl="4" marL="1974960" indent="-219240">
              <a:spcBef>
                <a:spcPts val="799"/>
              </a:spcBef>
              <a:buClr>
                <a:srgbClr val="99cc00"/>
              </a:buClr>
              <a:buFont typeface="Pizzicato-Swash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Pizzicato-Swash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Pizzicato-Swash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CCA4-38F7-4AA7-8811-34DBFB0C1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cc0066"/>
                </a:solidFill>
                <a:latin typeface="Pizzicato-Swash"/>
              </a:rPr>
              <a:t>Les adjectifs possessifs</a:t>
            </a:r>
            <a:endParaRPr b="1" lang="en-US" sz="5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99cc00"/>
              </a:solidFill>
              <a:latin typeface="Pizzicato-Swas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Et si c’est à vous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pic>
        <p:nvPicPr>
          <p:cNvPr id="124" name="Picture 3" descr="pencil"/>
          <p:cNvPicPr/>
          <p:nvPr/>
        </p:nvPicPr>
        <p:blipFill>
          <a:blip r:embed="rId1"/>
          <a:stretch/>
        </p:blipFill>
        <p:spPr>
          <a:xfrm>
            <a:off x="2340000" y="1844640"/>
            <a:ext cx="2306520" cy="1417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76920" y="1599840"/>
            <a:ext cx="4016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’es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votre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rayon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’es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votre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haise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e son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vos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rayon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e son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vos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haise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26" name="Picture 5" descr="chair"/>
          <p:cNvPicPr/>
          <p:nvPr/>
        </p:nvPicPr>
        <p:blipFill>
          <a:blip r:embed="rId2"/>
          <a:stretch/>
        </p:blipFill>
        <p:spPr>
          <a:xfrm>
            <a:off x="0" y="1197000"/>
            <a:ext cx="2082960" cy="1562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pencils"/>
          <p:cNvPicPr/>
          <p:nvPr/>
        </p:nvPicPr>
        <p:blipFill>
          <a:blip r:embed="rId3"/>
          <a:stretch/>
        </p:blipFill>
        <p:spPr>
          <a:xfrm>
            <a:off x="0" y="2997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chairs"/>
          <p:cNvPicPr/>
          <p:nvPr/>
        </p:nvPicPr>
        <p:blipFill>
          <a:blip r:embed="rId4"/>
          <a:stretch/>
        </p:blipFill>
        <p:spPr>
          <a:xfrm>
            <a:off x="2627280" y="3429000"/>
            <a:ext cx="19065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Et si c’est à eux/elles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pic>
        <p:nvPicPr>
          <p:cNvPr id="130" name="Picture 3" descr="pencil"/>
          <p:cNvPicPr/>
          <p:nvPr/>
        </p:nvPicPr>
        <p:blipFill>
          <a:blip r:embed="rId1"/>
          <a:stretch/>
        </p:blipFill>
        <p:spPr>
          <a:xfrm>
            <a:off x="2268360" y="4437000"/>
            <a:ext cx="2306880" cy="1417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1640" y="1773360"/>
            <a:ext cx="4321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’es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leur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rayon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’es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leur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haise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e son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leurs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rayon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e son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leurs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haise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32" name="Picture 5" descr="chair"/>
          <p:cNvPicPr/>
          <p:nvPr/>
        </p:nvPicPr>
        <p:blipFill>
          <a:blip r:embed="rId2"/>
          <a:stretch/>
        </p:blipFill>
        <p:spPr>
          <a:xfrm>
            <a:off x="179280" y="1773360"/>
            <a:ext cx="2082960" cy="1562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pencils"/>
          <p:cNvPicPr/>
          <p:nvPr/>
        </p:nvPicPr>
        <p:blipFill>
          <a:blip r:embed="rId3"/>
          <a:stretch/>
        </p:blipFill>
        <p:spPr>
          <a:xfrm>
            <a:off x="0" y="3429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hairs"/>
          <p:cNvPicPr/>
          <p:nvPr/>
        </p:nvPicPr>
        <p:blipFill>
          <a:blip r:embed="rId4"/>
          <a:stretch/>
        </p:blipFill>
        <p:spPr>
          <a:xfrm>
            <a:off x="2556000" y="1773360"/>
            <a:ext cx="19065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cc0066"/>
                </a:solidFill>
                <a:latin typeface="Pizzicato-Swash"/>
              </a:rPr>
              <a:t>Les adjectifs possessifs</a:t>
            </a:r>
            <a:endParaRPr b="1" lang="en-US" sz="4000" spc="-1" strike="noStrike">
              <a:solidFill>
                <a:srgbClr val="cc0066"/>
              </a:solidFill>
              <a:latin typeface="Pizzicato-Swash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619280" y="1844640"/>
          <a:ext cx="6408720" cy="4479840"/>
        </p:xfrm>
        <a:graphic>
          <a:graphicData uri="http://schemas.openxmlformats.org/drawingml/2006/table">
            <a:tbl>
              <a:tblPr/>
              <a:tblGrid>
                <a:gridCol w="1601640"/>
                <a:gridCol w="1603440"/>
                <a:gridCol w="1602000"/>
                <a:gridCol w="1601640"/>
              </a:tblGrid>
              <a:tr h="179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Pizzicato-Swash"/>
                        </a:rPr>
                        <a:t>Si l’objet est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99"/>
                          </a:solidFill>
                          <a:latin typeface="Pizzicato-Swash"/>
                        </a:rPr>
                        <a:t>Singulier 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99"/>
                          </a:solidFill>
                          <a:latin typeface="Pizzicato-Swash"/>
                        </a:rPr>
                        <a:t>Singulier 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99"/>
                          </a:solidFill>
                          <a:latin typeface="Pizzicato-Swash"/>
                        </a:rPr>
                        <a:t>Pluri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66ff"/>
                          </a:solidFill>
                          <a:latin typeface="Pizzicato-Swash"/>
                        </a:rPr>
                        <a:t>À m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M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66ff"/>
                          </a:solidFill>
                          <a:latin typeface="Pizzicato-Swash"/>
                        </a:rPr>
                        <a:t>À t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T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66ff"/>
                          </a:solidFill>
                          <a:latin typeface="Pizzicato-Swash"/>
                        </a:rPr>
                        <a:t>À lui</a:t>
                      </a: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Pizzicato-Swash"/>
                        </a:rPr>
                        <a:t>/el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66ff"/>
                          </a:solidFill>
                          <a:latin typeface="Pizzicato-Swash"/>
                        </a:rPr>
                        <a:t>À 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Not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66ff"/>
                          </a:solidFill>
                          <a:latin typeface="Pizzicato-Swash"/>
                        </a:rPr>
                        <a:t>À v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Vot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V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66ff"/>
                          </a:solidFill>
                          <a:latin typeface="Pizzicato-Swash"/>
                        </a:rPr>
                        <a:t>À eux</a:t>
                      </a: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Pizzicato-Swash"/>
                        </a:rPr>
                        <a:t>/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L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Le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Par exemple: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35880" indent="-3358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______ amie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35880" indent="-3358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______ </a:t>
            </a:r>
            <a:r>
              <a:rPr b="0" lang="fr-CA" sz="3200" spc="-1" strike="noStrike">
                <a:solidFill>
                  <a:srgbClr val="000000"/>
                </a:solidFill>
                <a:latin typeface="Pizzicato-Swash"/>
              </a:rPr>
              <a:t>école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35880" indent="-3358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______ agrafeuse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mon / ton / son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Mon amie, ton </a:t>
            </a:r>
            <a:r>
              <a:rPr b="0" lang="fr-CA" sz="3200" spc="-1" strike="noStrike">
                <a:solidFill>
                  <a:srgbClr val="000000"/>
                </a:solidFill>
                <a:latin typeface="Pizzicato-Swash"/>
              </a:rPr>
              <a:t>école, son agrafeuse, etc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Qu’est-ce que c’est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766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À Robert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41" name="Picture 5" descr="Saiyuki%20Reload%20Messenger%20Bag"/>
          <p:cNvPicPr/>
          <p:nvPr/>
        </p:nvPicPr>
        <p:blipFill>
          <a:blip r:embed="rId1"/>
          <a:stretch/>
        </p:blipFill>
        <p:spPr>
          <a:xfrm>
            <a:off x="3059280" y="2421000"/>
            <a:ext cx="2882880" cy="21668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2701440" y="494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mple: C’est son s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Qu’est-ce que c’est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Pizzicato-Swash"/>
              </a:rPr>
              <a:t>À Élise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45" name="Picture 5" descr="BAG%20%20$4"/>
          <p:cNvPicPr/>
          <p:nvPr/>
        </p:nvPicPr>
        <p:blipFill>
          <a:blip r:embed="rId1"/>
          <a:stretch/>
        </p:blipFill>
        <p:spPr>
          <a:xfrm>
            <a:off x="2843280" y="1969920"/>
            <a:ext cx="4465440" cy="33498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3924360" y="537372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’est son s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Qu’est-ce que c’est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Pizzicato-Swash"/>
              </a:rPr>
              <a:t>À toi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49" name="Picture 5" descr="eraser"/>
          <p:cNvPicPr/>
          <p:nvPr/>
        </p:nvPicPr>
        <p:blipFill>
          <a:blip r:embed="rId1"/>
          <a:stretch/>
        </p:blipFill>
        <p:spPr>
          <a:xfrm>
            <a:off x="2771640" y="1700280"/>
            <a:ext cx="3384720" cy="33368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3132000" y="5229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’est ta gom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Qu’est-ce que c’est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766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À Mylène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53" name="Picture 5" descr="metallic%20pens%20chubby"/>
          <p:cNvPicPr/>
          <p:nvPr/>
        </p:nvPicPr>
        <p:blipFill>
          <a:blip r:embed="rId1"/>
          <a:stretch/>
        </p:blipFill>
        <p:spPr>
          <a:xfrm>
            <a:off x="2598840" y="2143080"/>
            <a:ext cx="3948120" cy="29671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"/>
          <p:cNvSpPr/>
          <p:nvPr/>
        </p:nvSpPr>
        <p:spPr>
          <a:xfrm>
            <a:off x="2987280" y="5229360"/>
            <a:ext cx="31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 sont ses sty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Qu’est-ce que c’est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766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À Jean et Philippe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57" name="Picture 5" descr="school8"/>
          <p:cNvPicPr/>
          <p:nvPr/>
        </p:nvPicPr>
        <p:blipFill>
          <a:blip r:embed="rId1"/>
          <a:stretch/>
        </p:blipFill>
        <p:spPr>
          <a:xfrm>
            <a:off x="3780000" y="2230560"/>
            <a:ext cx="4260600" cy="30938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7"/>
          <p:cNvSpPr/>
          <p:nvPr/>
        </p:nvSpPr>
        <p:spPr>
          <a:xfrm>
            <a:off x="4357800" y="522936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’est leu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c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Qu’est-ce que c’est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766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À nous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61" name="Picture 5" descr="educationclipart023bw"/>
          <p:cNvPicPr/>
          <p:nvPr/>
        </p:nvPicPr>
        <p:blipFill>
          <a:blip r:embed="rId1"/>
          <a:stretch/>
        </p:blipFill>
        <p:spPr>
          <a:xfrm>
            <a:off x="4211640" y="2143080"/>
            <a:ext cx="3454560" cy="35924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5005800" y="400536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rdinateur 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3781800" y="4724280"/>
            <a:ext cx="37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’est notre ordinate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Pizzicato-Swash"/>
              </a:rPr>
              <a:t>Qu’est-ce que c’est?</a:t>
            </a:r>
            <a:endParaRPr b="1" lang="en-US" sz="40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7280" y="2057040"/>
            <a:ext cx="7575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’est un crayon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’es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mon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rayon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150160" y="5157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À m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3" descr="pencil"/>
          <p:cNvPicPr/>
          <p:nvPr/>
        </p:nvPicPr>
        <p:blipFill>
          <a:blip r:embed="rId1"/>
          <a:stretch/>
        </p:blipFill>
        <p:spPr>
          <a:xfrm>
            <a:off x="2124000" y="3500280"/>
            <a:ext cx="280044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Qu’est-ce que c’est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Pizzicato-Swash"/>
              </a:rPr>
              <a:t>À Monsieur et Madame Rémy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66" name="Picture 5" descr="2325620"/>
          <p:cNvPicPr/>
          <p:nvPr/>
        </p:nvPicPr>
        <p:blipFill>
          <a:blip r:embed="rId1"/>
          <a:stretch/>
        </p:blipFill>
        <p:spPr>
          <a:xfrm>
            <a:off x="2771640" y="2781360"/>
            <a:ext cx="3333960" cy="21715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3060720" y="5013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’est leur voi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Qu’est-ce que c’est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Pizzicato-Swash"/>
              </a:rPr>
              <a:t>À Monique et Martin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70" name="Picture 5" descr="book01"/>
          <p:cNvPicPr/>
          <p:nvPr/>
        </p:nvPicPr>
        <p:blipFill>
          <a:blip r:embed="rId1"/>
          <a:stretch/>
        </p:blipFill>
        <p:spPr>
          <a:xfrm>
            <a:off x="4643280" y="1773360"/>
            <a:ext cx="3557880" cy="39607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1187280" y="508464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 sont leurs liv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cc0066"/>
                </a:solidFill>
                <a:latin typeface="Pizzicato-Swash"/>
              </a:rPr>
              <a:t>Qui est-ce</a:t>
            </a: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Pizzicato-Swash"/>
              </a:rPr>
              <a:t>C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’est le professeur de Jean, Pierre et Philippe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74" name="Picture 5" descr="teacher_clipart_3"/>
          <p:cNvPicPr/>
          <p:nvPr/>
        </p:nvPicPr>
        <p:blipFill>
          <a:blip r:embed="rId1"/>
          <a:stretch/>
        </p:blipFill>
        <p:spPr>
          <a:xfrm>
            <a:off x="5364000" y="2781360"/>
            <a:ext cx="2073600" cy="2592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1549440" y="458136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’est leur professe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cc0066"/>
                </a:solidFill>
                <a:latin typeface="Pizzicato-Swash"/>
              </a:rPr>
              <a:t>Qui est-ce</a:t>
            </a: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e sont les amis de Garfield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78" name="Picture 5" descr="friends"/>
          <p:cNvPicPr/>
          <p:nvPr/>
        </p:nvPicPr>
        <p:blipFill>
          <a:blip r:embed="rId1"/>
          <a:stretch/>
        </p:blipFill>
        <p:spPr>
          <a:xfrm>
            <a:off x="1332000" y="2708280"/>
            <a:ext cx="3887640" cy="29383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5293800" y="5013360"/>
            <a:ext cx="30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 sont ses am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cc0066"/>
                </a:solidFill>
                <a:latin typeface="Pizzicato-Swash"/>
              </a:rPr>
              <a:t>Qui est-ce</a:t>
            </a: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pic>
        <p:nvPicPr>
          <p:cNvPr id="181" name="Picture 4" descr="friends"/>
          <p:cNvPicPr/>
          <p:nvPr/>
        </p:nvPicPr>
        <p:blipFill>
          <a:blip r:embed="rId1"/>
          <a:stretch/>
        </p:blipFill>
        <p:spPr>
          <a:xfrm>
            <a:off x="2052720" y="2351160"/>
            <a:ext cx="4444920" cy="27478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1835280" y="184464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 sont les amis de Garfield et d’O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205080" y="5300640"/>
            <a:ext cx="32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 sont leurs am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cc0066"/>
                </a:solidFill>
                <a:latin typeface="Pizzicato-Swash"/>
              </a:rPr>
              <a:t>Exercices</a:t>
            </a:r>
            <a:endParaRPr b="1" lang="en-US" sz="5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99cc00"/>
              </a:solidFill>
              <a:latin typeface="Pizzicato-Swas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cc0066"/>
                </a:solidFill>
                <a:latin typeface="Pizzicato-Swash"/>
              </a:rPr>
              <a:t>C</a:t>
            </a:r>
            <a:r>
              <a:rPr b="1" lang="en-US" sz="4000" spc="-1" strike="noStrike">
                <a:solidFill>
                  <a:srgbClr val="cc0066"/>
                </a:solidFill>
                <a:latin typeface="Pizzicato-Swash"/>
              </a:rPr>
              <a:t>’est </a:t>
            </a:r>
            <a:r>
              <a:rPr b="1" lang="fr-CA" sz="4000" spc="-1" strike="noStrike">
                <a:solidFill>
                  <a:srgbClr val="cc0066"/>
                </a:solidFill>
                <a:latin typeface="Pizzicato-Swash"/>
              </a:rPr>
              <a:t>à moi! Complétez par </a:t>
            </a:r>
            <a:r>
              <a:rPr b="0" i="1" lang="fr-CA" sz="4000" spc="-1" strike="noStrike">
                <a:solidFill>
                  <a:srgbClr val="cc0066"/>
                </a:solidFill>
                <a:latin typeface="Pizzicato-Swash"/>
              </a:rPr>
              <a:t>mon</a:t>
            </a:r>
            <a:r>
              <a:rPr b="1" lang="fr-CA" sz="4000" spc="-1" strike="noStrike">
                <a:solidFill>
                  <a:srgbClr val="cc0066"/>
                </a:solidFill>
                <a:latin typeface="Pizzicato-Swash"/>
              </a:rPr>
              <a:t>, </a:t>
            </a:r>
            <a:r>
              <a:rPr b="0" i="1" lang="fr-CA" sz="4000" spc="-1" strike="noStrike">
                <a:solidFill>
                  <a:srgbClr val="cc0066"/>
                </a:solidFill>
                <a:latin typeface="Pizzicato-Swash"/>
              </a:rPr>
              <a:t>ma</a:t>
            </a:r>
            <a:r>
              <a:rPr b="1" lang="fr-CA" sz="4000" spc="-1" strike="noStrike">
                <a:solidFill>
                  <a:srgbClr val="cc0066"/>
                </a:solidFill>
                <a:latin typeface="Pizzicato-Swash"/>
              </a:rPr>
              <a:t> ou </a:t>
            </a:r>
            <a:r>
              <a:rPr b="0" lang="fr-CA" sz="4000" spc="-1" strike="noStrike">
                <a:solidFill>
                  <a:srgbClr val="cc0066"/>
                </a:solidFill>
                <a:latin typeface="Pizzicato-Swash"/>
              </a:rPr>
              <a:t>mes</a:t>
            </a:r>
            <a:r>
              <a:rPr b="1" lang="fr-CA" sz="4000" spc="-1" strike="noStrike">
                <a:solidFill>
                  <a:srgbClr val="cc0066"/>
                </a:solidFill>
                <a:latin typeface="Pizzicato-Swash"/>
              </a:rPr>
              <a:t>.</a:t>
            </a:r>
            <a:endParaRPr b="1" lang="en-US" sz="40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766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village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table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voiture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maison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clés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appartement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6480" y="2057040"/>
            <a:ext cx="40766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café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livres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limonade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vacances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bureau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agenda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cc0066"/>
                </a:solidFill>
                <a:latin typeface="Pizzicato-Swash"/>
              </a:rPr>
              <a:t>Choisissez </a:t>
            </a:r>
            <a:r>
              <a:rPr b="0" i="1" lang="fr-CA" sz="4400" spc="-1" strike="noStrike">
                <a:solidFill>
                  <a:srgbClr val="cc0066"/>
                </a:solidFill>
                <a:latin typeface="Pizzicato-Swash"/>
              </a:rPr>
              <a:t>ton</a:t>
            </a:r>
            <a:r>
              <a:rPr b="1" lang="fr-CA" sz="4400" spc="-1" strike="noStrike">
                <a:solidFill>
                  <a:srgbClr val="cc0066"/>
                </a:solidFill>
                <a:latin typeface="Pizzicato-Swash"/>
              </a:rPr>
              <a:t> ou </a:t>
            </a:r>
            <a:r>
              <a:rPr b="0" i="1" lang="fr-CA" sz="4400" spc="-1" strike="noStrike">
                <a:solidFill>
                  <a:srgbClr val="cc0066"/>
                </a:solidFill>
                <a:latin typeface="Pizzicato-Swash"/>
              </a:rPr>
              <a:t>ta</a:t>
            </a:r>
            <a:r>
              <a:rPr b="1" lang="fr-CA" sz="4400" spc="-1" strike="noStrike">
                <a:solidFill>
                  <a:srgbClr val="cc0066"/>
                </a:solidFill>
                <a:latin typeface="Pizzicato-Swash"/>
              </a:rPr>
              <a:t>.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766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prénom (m)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adresse (f)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âge (m)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professeur (m)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papa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maman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6480" y="2057040"/>
            <a:ext cx="40766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médecin (m)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amie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élève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chanson (f)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infirmière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école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700" spc="-1" strike="noStrike">
                <a:solidFill>
                  <a:srgbClr val="cc0066"/>
                </a:solidFill>
                <a:latin typeface="Pizzicato-Swash"/>
              </a:rPr>
              <a:t>Associez les expressions qui vont ensemble.</a:t>
            </a:r>
            <a:br>
              <a:rPr sz="2700"/>
            </a:br>
            <a:r>
              <a:rPr b="1" lang="fr-CA" sz="2700" spc="-1" strike="noStrike">
                <a:solidFill>
                  <a:srgbClr val="cc0066"/>
                </a:solidFill>
                <a:latin typeface="Pizzicato-Swash"/>
              </a:rPr>
              <a:t>Exemple: Tu cherches des disques.</a:t>
            </a:r>
            <a:br>
              <a:rPr sz="2700"/>
            </a:br>
            <a:r>
              <a:rPr b="1" lang="fr-CA" sz="2700" spc="-1" strike="noStrike">
                <a:solidFill>
                  <a:srgbClr val="cc0066"/>
                </a:solidFill>
                <a:latin typeface="Wingdings"/>
                <a:ea typeface="Wingdings"/>
              </a:rPr>
              <a:t></a:t>
            </a:r>
            <a:r>
              <a:rPr b="1" lang="fr-CA" sz="2700" spc="-1" strike="noStrike">
                <a:solidFill>
                  <a:srgbClr val="cc0066"/>
                </a:solidFill>
                <a:latin typeface="Pizzicato-Swash"/>
              </a:rPr>
              <a:t> 8. Voilà tes disques.</a:t>
            </a:r>
            <a:endParaRPr b="1" lang="en-US" sz="27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0719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Tu cherches des disques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315360" indent="-315360">
              <a:spcBef>
                <a:spcPts val="601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Ces chaussures sont à moi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315360" indent="-315360">
              <a:spcBef>
                <a:spcPts val="601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Elle a des amis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315360" indent="-315360">
              <a:spcBef>
                <a:spcPts val="601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Il a une voiture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315360" indent="-315360">
              <a:spcBef>
                <a:spcPts val="601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Pizzicato-Swash"/>
              </a:rPr>
              <a:t>’ai un billet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315360" indent="-315360">
              <a:spcBef>
                <a:spcPts val="601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izzicato-Swash"/>
              </a:rPr>
              <a:t>Tu as un r</a:t>
            </a: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éveil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315360" indent="-315360">
              <a:spcBef>
                <a:spcPts val="601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Je prends une tarte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315360" indent="-315360">
              <a:spcBef>
                <a:spcPts val="601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Il écrit un roman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315360" indent="-315360">
              <a:spcBef>
                <a:spcPts val="601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Pizzicato-Swash"/>
              </a:rPr>
              <a:t>’ai une nouvelle adresse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90800" y="2057040"/>
            <a:ext cx="40719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Pizzicato-Swas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Voici mon adresse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Pizzicato-Swas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Pizzicato-Swash"/>
              </a:rPr>
              <a:t>’est ma tarte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Pizzicato-Swas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izzicato-Swash"/>
              </a:rPr>
              <a:t>Voil</a:t>
            </a: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à son roman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Pizzicato-Swas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Pizzicato-Swash"/>
              </a:rPr>
              <a:t>’est sa voiture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Pizzicato-Swas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izzicato-Swash"/>
              </a:rPr>
              <a:t>C’est ton r</a:t>
            </a: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éveil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Pizzicato-Swas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Voilà ses amis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Pizzicato-Swas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Ce sont mes chaussures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Pizzicato-Swas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Voilà tes disques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Pizzicato-Swas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C’est mon billet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Qu’est-ce que c’est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7280" y="2057040"/>
            <a:ext cx="7575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Pizzicato-Swash"/>
              </a:rPr>
              <a:t>C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’est une chaise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’es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ma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haise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92" name="Picture 5" descr="chair"/>
          <p:cNvPicPr/>
          <p:nvPr/>
        </p:nvPicPr>
        <p:blipFill>
          <a:blip r:embed="rId1"/>
          <a:stretch/>
        </p:blipFill>
        <p:spPr>
          <a:xfrm>
            <a:off x="5003640" y="2492280"/>
            <a:ext cx="3025800" cy="2268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6012000" y="4941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ndy"/>
              </a:rPr>
              <a:t>À mo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2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Qu’est-ce que c’est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e sont des crayon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e son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mes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rayon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96" name="Picture 5" descr="pencils"/>
          <p:cNvPicPr/>
          <p:nvPr/>
        </p:nvPicPr>
        <p:blipFill>
          <a:blip r:embed="rId1"/>
          <a:stretch/>
        </p:blipFill>
        <p:spPr>
          <a:xfrm>
            <a:off x="5148360" y="2060640"/>
            <a:ext cx="2739960" cy="27399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5980680" y="5013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ndy"/>
              </a:rPr>
              <a:t>À mo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Qu’est-ce que c’est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2057040"/>
            <a:ext cx="7996320" cy="12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Ce sont des chaise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Ce sont </a:t>
            </a:r>
            <a:r>
              <a:rPr b="1" lang="en-US" sz="3200" spc="-1" strike="noStrike">
                <a:solidFill>
                  <a:srgbClr val="000000"/>
                </a:solidFill>
                <a:latin typeface="Pizzicato-Swash"/>
              </a:rPr>
              <a:t>mes</a:t>
            </a: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 chaise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00" name="Picture 5" descr="chairs"/>
          <p:cNvPicPr/>
          <p:nvPr/>
        </p:nvPicPr>
        <p:blipFill>
          <a:blip r:embed="rId1"/>
          <a:stretch/>
        </p:blipFill>
        <p:spPr>
          <a:xfrm>
            <a:off x="5264280" y="2270160"/>
            <a:ext cx="2593800" cy="30258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4109040" y="508464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ndy"/>
              </a:rPr>
              <a:t>À mo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2204640"/>
            <a:ext cx="407196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Pizzicato-Swash"/>
              </a:rPr>
              <a:t>Mon</a:t>
            </a: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 crayon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Pizzicato-Swash"/>
              </a:rPr>
              <a:t>Ma</a:t>
            </a: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 chaise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Pizzicato-Swash"/>
              </a:rPr>
              <a:t>Mes</a:t>
            </a: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 crayons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Pizzicato-Swash"/>
              </a:rPr>
              <a:t>Mes</a:t>
            </a: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 chaises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90800" y="2204640"/>
            <a:ext cx="407196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Masculin singulier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F</a:t>
            </a:r>
            <a:r>
              <a:rPr b="0" lang="fr-CA" sz="3200" spc="-1" strike="noStrike">
                <a:solidFill>
                  <a:srgbClr val="000000"/>
                </a:solidFill>
                <a:latin typeface="Pizzicato-Swash"/>
              </a:rPr>
              <a:t>éminin singulier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Pizzicato-Swash"/>
              </a:rPr>
              <a:t>Masculin pluri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Pizzicato-Swash"/>
              </a:rPr>
              <a:t>Féminin pluri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Et si c’est à toi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pic>
        <p:nvPicPr>
          <p:cNvPr id="106" name="Picture 4" descr="pencil"/>
          <p:cNvPicPr/>
          <p:nvPr/>
        </p:nvPicPr>
        <p:blipFill>
          <a:blip r:embed="rId1"/>
          <a:stretch/>
        </p:blipFill>
        <p:spPr>
          <a:xfrm>
            <a:off x="0" y="1125360"/>
            <a:ext cx="2306520" cy="14176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76920" y="1989000"/>
            <a:ext cx="40161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’es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ton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rayon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’es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ta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haise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e son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tes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rayon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e son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tes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haise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08" name="Picture 8" descr="chair"/>
          <p:cNvPicPr/>
          <p:nvPr/>
        </p:nvPicPr>
        <p:blipFill>
          <a:blip r:embed="rId2"/>
          <a:stretch/>
        </p:blipFill>
        <p:spPr>
          <a:xfrm>
            <a:off x="250920" y="2708280"/>
            <a:ext cx="2082600" cy="1562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pencils"/>
          <p:cNvPicPr/>
          <p:nvPr/>
        </p:nvPicPr>
        <p:blipFill>
          <a:blip r:embed="rId3"/>
          <a:stretch/>
        </p:blipFill>
        <p:spPr>
          <a:xfrm>
            <a:off x="611280" y="436572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chairs"/>
          <p:cNvPicPr/>
          <p:nvPr/>
        </p:nvPicPr>
        <p:blipFill>
          <a:blip r:embed="rId4"/>
          <a:stretch/>
        </p:blipFill>
        <p:spPr>
          <a:xfrm>
            <a:off x="2916360" y="1916280"/>
            <a:ext cx="19065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Et si c’est à lui/elle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pic>
        <p:nvPicPr>
          <p:cNvPr id="112" name="Picture 3" descr="pencil"/>
          <p:cNvPicPr/>
          <p:nvPr/>
        </p:nvPicPr>
        <p:blipFill>
          <a:blip r:embed="rId1"/>
          <a:stretch/>
        </p:blipFill>
        <p:spPr>
          <a:xfrm>
            <a:off x="0" y="1916280"/>
            <a:ext cx="2306520" cy="1417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76920" y="1599840"/>
            <a:ext cx="4016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’es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son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rayon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’es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sa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haise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e son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ses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rayon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e son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ses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haise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14" name="Picture 5" descr="chair"/>
          <p:cNvPicPr/>
          <p:nvPr/>
        </p:nvPicPr>
        <p:blipFill>
          <a:blip r:embed="rId2"/>
          <a:stretch/>
        </p:blipFill>
        <p:spPr>
          <a:xfrm>
            <a:off x="250920" y="3500280"/>
            <a:ext cx="2082600" cy="1562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pencils"/>
          <p:cNvPicPr/>
          <p:nvPr/>
        </p:nvPicPr>
        <p:blipFill>
          <a:blip r:embed="rId3"/>
          <a:stretch/>
        </p:blipFill>
        <p:spPr>
          <a:xfrm>
            <a:off x="2484360" y="1844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hairs"/>
          <p:cNvPicPr/>
          <p:nvPr/>
        </p:nvPicPr>
        <p:blipFill>
          <a:blip r:embed="rId4"/>
          <a:stretch/>
        </p:blipFill>
        <p:spPr>
          <a:xfrm>
            <a:off x="2627280" y="4292640"/>
            <a:ext cx="19065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Et si c’est à nous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pic>
        <p:nvPicPr>
          <p:cNvPr id="118" name="Picture 3" descr="pencil"/>
          <p:cNvPicPr/>
          <p:nvPr/>
        </p:nvPicPr>
        <p:blipFill>
          <a:blip r:embed="rId1"/>
          <a:stretch/>
        </p:blipFill>
        <p:spPr>
          <a:xfrm>
            <a:off x="2411280" y="4508640"/>
            <a:ext cx="2306880" cy="14173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76920" y="1599840"/>
            <a:ext cx="4016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’es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notre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rayon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’es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notre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haise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e son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nos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rayon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e son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nos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haise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20" name="Picture 5" descr="chair"/>
          <p:cNvPicPr/>
          <p:nvPr/>
        </p:nvPicPr>
        <p:blipFill>
          <a:blip r:embed="rId2"/>
          <a:stretch/>
        </p:blipFill>
        <p:spPr>
          <a:xfrm>
            <a:off x="0" y="3429000"/>
            <a:ext cx="2082960" cy="1562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pencils"/>
          <p:cNvPicPr/>
          <p:nvPr/>
        </p:nvPicPr>
        <p:blipFill>
          <a:blip r:embed="rId3"/>
          <a:stretch/>
        </p:blipFill>
        <p:spPr>
          <a:xfrm>
            <a:off x="0" y="1306440"/>
            <a:ext cx="2050920" cy="2051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chairs"/>
          <p:cNvPicPr/>
          <p:nvPr/>
        </p:nvPicPr>
        <p:blipFill>
          <a:blip r:embed="rId4"/>
          <a:stretch/>
        </p:blipFill>
        <p:spPr>
          <a:xfrm>
            <a:off x="2411280" y="1844640"/>
            <a:ext cx="19065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04:14:39Z</dcterms:created>
  <dc:creator>cheoann</dc:creator>
  <dc:description/>
  <dc:language>en-US</dc:language>
  <cp:lastModifiedBy>MANUEL VIERA ÉCOLE OFFICIELLE DE LANGUES</cp:lastModifiedBy>
  <dcterms:modified xsi:type="dcterms:W3CDTF">2015-10-20T22:49:42Z</dcterms:modified>
  <cp:revision>21</cp:revision>
  <dc:subject/>
  <dc:title>Les adjectifs possessifs</dc:title>
</cp:coreProperties>
</file>